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A25-E3D4-4B67-8F7F-6AD73D7C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220-DC75-46D4-983D-351194A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2E8-5E6D-4A20-BE3C-11E961F7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821-DAB2-4FD9-8FBC-5FE52307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A5F-8FC0-40CB-9FB5-ECE6E230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0DCE-BDEF-437D-A464-AE5F368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9DB9-916E-406F-B3C3-A716E2D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F92-A120-426E-90FF-2D7C4E1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C9EE-A693-4F84-B578-7E76EB83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D75E-DBBF-4F55-90B3-BC2B5516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E79-DEC9-47B0-BBCF-26A2318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F1D-BAAA-4A1C-A220-9B65DA7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CBF-F064-4A0B-AD67-D8594CA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757B-7DBE-43E7-9075-F2E5C25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E3DF-051D-4981-AEE3-FED792D2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1017-FD49-4000-AE94-B141F375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B4B-FD56-43F5-8177-F3DB4213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B19-4B8C-4CC6-B2A6-EA45477E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4BD-C214-4182-9AC4-BC5DDD94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666-5B2D-4877-ACA9-72715335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475-97C3-41EE-800A-716BF89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AA1-2D05-4BA6-ADFE-4B060A9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124-91C4-45B8-8E9E-7E63B99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03E-ADAB-4DFB-B212-EA67CE4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10A-9A8E-4062-AAAB-F69FBC8F4062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542C-3C57-465E-AFB6-4034A07FF661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Going My Wa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Hayden and Allis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Destinati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Milwaukee, WI to Scotlandville, LA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eans of transportation: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Fares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lta Airlines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Milwaukee, WI to Scotlandville, LA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$473.91 Per Passenger Round Trip Coach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rinciple ticket price- $433.0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ees- $40.9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3 People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lane Tickets- $1421.70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Baton Roug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2:35 PM April 1</a:t>
            </a:r>
            <a:r>
              <a:rPr b="0" lang="en-US" sz="1600" spc="-1" strike="noStrike" baseline="30000">
                <a:solidFill>
                  <a:srgbClr val="00408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LA at 7:17  PM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1 hr 8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Milwauke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7:45 AM April 15,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Milwaukee- 12:03 PM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57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51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Layover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Baton Roug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2:35 PM April 1st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LA at 7:17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1 hr 8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Milwauke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7:45 AM April 15,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Milwaukee- 12:03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57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ntal Car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190.49 Per Week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2 Weeks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380.9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rom Hertz Car Rental Servic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19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ap of the route of our plane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9960" y="21812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Milwaukee to Atlanta, Georgi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tlanta, Georgia to Baton Rouge, Louisian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14:42Z</dcterms:created>
  <dc:creator>MPS MPS</dc:creator>
  <dc:description/>
  <dc:language>en-US</dc:language>
  <cp:lastModifiedBy>MPS MPS</cp:lastModifiedBy>
  <dcterms:modified xsi:type="dcterms:W3CDTF">2009-04-02T14:07:46Z</dcterms:modified>
  <cp:revision>4</cp:revision>
  <dc:subject/>
  <dc:title>Going My Way</dc:title>
</cp:coreProperties>
</file>